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FEC-8C7F-4C02-B683-FB361CE2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27D-423A-49C1-A84E-DF39244D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601-EE24-4DEE-9177-A05AF1A2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5DE-9D86-4ED6-95C0-00F32D9A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C17-3789-4405-899F-700BC519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A92-1975-4176-BF57-2413140A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A4D-46AA-4FC0-9F5F-78B0FAA9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CAA-3F8F-4149-9A6D-056607D8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8E7-7AFA-4A53-8D96-FFD8C97C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99B-93D9-4494-84C3-0854574D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D5E-6450-4090-950F-BB95C7B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A9B-9146-4688-BE1D-5B64E62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5A1A-6431-47F1-AAD9-534558FB4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0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02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02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02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02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02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02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02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0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02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0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02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02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02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02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02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1:16:25Z</dcterms:created>
  <dc:creator>iñigo</dc:creator>
  <dc:description/>
  <dc:language>en-US</dc:language>
  <cp:lastModifiedBy>iñigo</cp:lastModifiedBy>
  <dcterms:modified xsi:type="dcterms:W3CDTF">2001-04-23T11:16:37Z</dcterms:modified>
  <cp:revision>1</cp:revision>
  <dc:subject/>
  <dc:title>Presentación de PowerPoint</dc:title>
</cp:coreProperties>
</file>